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06E-6B38-4B4C-B26B-63D40820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E71-3782-46E8-8304-7C1FBC5D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A4D-7BBB-43FA-9719-5617D9E0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CA1-02A0-4BC7-8253-A591A0A1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F76-E99E-4257-8D1A-11DD6403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85D-9D45-49E1-824A-295B600F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8E7-50B1-4748-9062-FDAFB1AC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98E-8E22-48AF-84EA-C54EDDEF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699-88D6-4CC3-B886-2FCAB2CF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CA1-9094-41C2-8429-8A6051FC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FE8-2CD3-4AED-A5BC-CCB65CF6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FC2-8FB0-4CFE-A103-EFDE29BF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4C7A-59E5-457B-A47B-367EA79F9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143000" y="1219320"/>
            <a:ext cx="71629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est n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762120" y="990720"/>
            <a:ext cx="76197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son bac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a étudié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240" y="981000"/>
            <a:ext cx="7645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a travaill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2 ministère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quel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380880" y="1295280"/>
            <a:ext cx="83059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s’appel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762120" y="1447920"/>
            <a:ext cx="73911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of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mar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762120" y="990720"/>
            <a:ext cx="7924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souffr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pauvre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990720"/>
            <a:ext cx="69343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n’aim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lle n’en avait pa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19320" y="1066680"/>
            <a:ext cx="67816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elle s’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iée  ave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mar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1143000"/>
            <a:ext cx="74678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u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2193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91440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 quit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he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sait pend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ucc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Mathild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066680" y="114300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boî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bijo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838080" y="83808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onyme p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ij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762120" y="990720"/>
            <a:ext cx="76197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jo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U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re j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533520" y="990720"/>
            <a:ext cx="78483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Mathil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all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’éduc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838080" y="91440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arur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ynon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1219320"/>
            <a:ext cx="68580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f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838080" y="1143000"/>
            <a:ext cx="7772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otagoni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95280" y="1219320"/>
            <a:ext cx="67057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ner q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un tem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m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066680" y="1447920"/>
            <a:ext cx="7162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lar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mb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447920"/>
            <a:ext cx="7162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silen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 pas 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ouv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c pour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mière fo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762120" y="1371600"/>
            <a:ext cx="74674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pr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6" name="Picture 3" descr="C:\Users\Phyllis\AppData\Local\Microsoft\Windows\Temporary Internet Files\Content.IE5\81EWQ513\MC900423173[1].wmf"/>
          <p:cNvPicPr/>
          <p:nvPr/>
        </p:nvPicPr>
        <p:blipFill>
          <a:blip r:embed="rId1"/>
          <a:stretch/>
        </p:blipFill>
        <p:spPr>
          <a:xfrm>
            <a:off x="3657600" y="388620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914400" y="914400"/>
            <a:ext cx="74674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n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ur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Picture 3" descr="C:\Users\Phyllis\AppData\Local\Microsoft\Windows\Temporary Internet Files\Content.IE5\UH9487T3\MC900423171[1].wmf"/>
          <p:cNvPicPr/>
          <p:nvPr/>
        </p:nvPicPr>
        <p:blipFill>
          <a:blip r:embed="rId1"/>
          <a:stretch/>
        </p:blipFill>
        <p:spPr>
          <a:xfrm>
            <a:off x="3657600" y="2590920"/>
            <a:ext cx="18273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90720" y="1219320"/>
            <a:ext cx="73911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in de terreu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niq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3" descr="C:\Users\Phyllis\AppData\Local\Microsoft\Windows\Temporary Internet Files\Content.IE5\1YT0E33H\MC900423151[1].wmf"/>
          <p:cNvPicPr/>
          <p:nvPr/>
        </p:nvPicPr>
        <p:blipFill>
          <a:blip r:embed="rId1"/>
          <a:stretch/>
        </p:blipFill>
        <p:spPr>
          <a:xfrm>
            <a:off x="6705720" y="320040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espoi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tri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2" name="Picture 3" descr="C:\Users\Phyllis\AppData\Local\Microsoft\Windows\Temporary Internet Files\Content.IE5\X4LDVMWH\MC900433818[1].png"/>
          <p:cNvPicPr/>
          <p:nvPr/>
        </p:nvPicPr>
        <p:blipFill>
          <a:blip r:embed="rId1"/>
          <a:stretch/>
        </p:blipFill>
        <p:spPr>
          <a:xfrm>
            <a:off x="6629400" y="2895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762120" y="990720"/>
            <a:ext cx="7772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ilian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andaleux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shonor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4" name="Picture 3" descr="C:\Users\Phyllis\AppData\Local\Microsoft\Windows\Temporary Internet Files\Content.IE5\1YT0E33H\MC900434415[1].wmf"/>
          <p:cNvPicPr/>
          <p:nvPr/>
        </p:nvPicPr>
        <p:blipFill>
          <a:blip r:embed="rId1"/>
          <a:stretch/>
        </p:blipFill>
        <p:spPr>
          <a:xfrm>
            <a:off x="3581280" y="4648320"/>
            <a:ext cx="18543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21932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6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143000" y="106668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robl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m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en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1219320" y="114300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s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1066680" y="91440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res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52280" y="3808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blè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m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nu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t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685800" y="990720"/>
            <a:ext cx="80773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n’av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spérances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685800" y="990720"/>
            <a:ext cx="78487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son #1 p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ne voul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ister à la soi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14400" y="1143000"/>
            <a:ext cx="74674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914400" y="83808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son #2 Pq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ne Voul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ister à la soi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quitt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Lois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ent qu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lè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838080"/>
            <a:ext cx="7924680" cy="47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lus gr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Loise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609480" y="114300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app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143000" y="1143000"/>
            <a:ext cx="7238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a f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con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06668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n’aim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siter, p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souffrait en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066680" y="838080"/>
            <a:ext cx="7467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l’am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de à soluci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838080"/>
            <a:ext cx="754380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bijoux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mi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ne chois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coû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ouv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ilet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8580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ari pens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lle pouv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metter que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b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99072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’e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oisit co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oi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xactement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-t-elle trouv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accessoi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ét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quand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oussé un cr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cause de s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oi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219320" y="114300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au desce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y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838080" y="137160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rg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a fam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ne au mar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véhi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chev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914400" y="114300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 de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t de Chr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219320" y="160020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ntrai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beau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Die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met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371600" y="1295280"/>
            <a:ext cx="64771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oir les idé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d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838080" y="1219320"/>
            <a:ext cx="73915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dépêcher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066680" y="106668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-d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219320" y="1143000"/>
            <a:ext cx="71625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bouc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es coins en ha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8" name="Picture 4" descr="C:\Users\Phyllis\AppData\Local\Microsoft\Windows\Temporary Internet Files\Content.IE5\X4LDVMWH\MC900433820[1].png"/>
          <p:cNvPicPr/>
          <p:nvPr/>
        </p:nvPicPr>
        <p:blipFill>
          <a:blip r:embed="rId1"/>
          <a:stretch/>
        </p:blipFill>
        <p:spPr>
          <a:xfrm>
            <a:off x="762120" y="914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0%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523880" y="1752480"/>
            <a:ext cx="57150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1" name="TextBox 3" descr=""/>
          <p:cNvPicPr/>
          <p:nvPr/>
        </p:nvPicPr>
        <p:blipFill>
          <a:blip r:embed="rId1"/>
          <a:stretch/>
        </p:blipFill>
        <p:spPr>
          <a:xfrm>
            <a:off x="755640" y="438120"/>
            <a:ext cx="77850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TextBox 3" descr=""/>
          <p:cNvPicPr/>
          <p:nvPr/>
        </p:nvPicPr>
        <p:blipFill>
          <a:blip r:embed="rId1"/>
          <a:stretch/>
        </p:blipFill>
        <p:spPr>
          <a:xfrm>
            <a:off x="1170000" y="969840"/>
            <a:ext cx="7029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762120" y="1066680"/>
            <a:ext cx="7848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uvement du cor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a froid ou peur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Guy de Maupassant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te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tagonis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r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t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l avai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el âg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and il est mort?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43 a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(1850-1893)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3000" y="1371600"/>
            <a:ext cx="67057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s’appelle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03-30T12:46:47Z</dcterms:modified>
  <cp:revision>72</cp:revision>
  <dc:subject/>
  <dc:title>No Slide Title</dc:title>
</cp:coreProperties>
</file>